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FC4-3148-4B3B-B777-2E0B2705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A12-CCDC-4432-B69E-FEC517B2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76E-5117-40BC-A19E-5AB68B7C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A83-FC86-4FB1-A42B-72FA53EE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F7E-EBD3-452D-BB02-E917B96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1EC-0F21-4FD0-836D-E02F88CC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6C4-32AE-415B-BD14-C94336B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D39-2C36-40B7-8213-E09C7B62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F37-DF32-4EF3-8272-56034F3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961-C94A-45A6-BE78-46ED5020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BEB-851D-4DEF-8EFA-7557747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87D-85C2-4377-80B5-E778A63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548-ECF0-4615-B150-64A308B51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ccess Control Systems &amp;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69339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these are slides that were part of a CISSP prep course that I partly developed and taught while I was with Ernst and You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these slides are dated – August 1999 -  the core information is still relevan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me w/ any questions or comments –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Rothke, CISSP  brothke@hotmail.co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6757920" y="3759120"/>
            <a:ext cx="2038320" cy="2173320"/>
          </a:xfrm>
          <a:custGeom>
            <a:avLst/>
            <a:gdLst/>
            <a:ahLst/>
            <a:rect l="l" t="t" r="r" b="b"/>
            <a:pathLst>
              <a:path w="1284" h="1369">
                <a:moveTo>
                  <a:pt x="382" y="100"/>
                </a:moveTo>
                <a:lnTo>
                  <a:pt x="382" y="100"/>
                </a:lnTo>
                <a:lnTo>
                  <a:pt x="400" y="98"/>
                </a:lnTo>
                <a:lnTo>
                  <a:pt x="417" y="95"/>
                </a:lnTo>
                <a:lnTo>
                  <a:pt x="435" y="94"/>
                </a:lnTo>
                <a:lnTo>
                  <a:pt x="454" y="92"/>
                </a:lnTo>
                <a:lnTo>
                  <a:pt x="471" y="92"/>
                </a:lnTo>
                <a:lnTo>
                  <a:pt x="491" y="92"/>
                </a:lnTo>
                <a:lnTo>
                  <a:pt x="508" y="94"/>
                </a:lnTo>
                <a:lnTo>
                  <a:pt x="527" y="97"/>
                </a:lnTo>
                <a:lnTo>
                  <a:pt x="527" y="97"/>
                </a:lnTo>
                <a:lnTo>
                  <a:pt x="544" y="99"/>
                </a:lnTo>
                <a:lnTo>
                  <a:pt x="560" y="102"/>
                </a:lnTo>
                <a:lnTo>
                  <a:pt x="576" y="105"/>
                </a:lnTo>
                <a:lnTo>
                  <a:pt x="592" y="107"/>
                </a:lnTo>
                <a:lnTo>
                  <a:pt x="608" y="109"/>
                </a:lnTo>
                <a:lnTo>
                  <a:pt x="624" y="110"/>
                </a:lnTo>
                <a:lnTo>
                  <a:pt x="641" y="110"/>
                </a:lnTo>
                <a:lnTo>
                  <a:pt x="657" y="110"/>
                </a:lnTo>
                <a:lnTo>
                  <a:pt x="673" y="109"/>
                </a:lnTo>
                <a:lnTo>
                  <a:pt x="689" y="109"/>
                </a:lnTo>
                <a:lnTo>
                  <a:pt x="705" y="106"/>
                </a:lnTo>
                <a:lnTo>
                  <a:pt x="720" y="103"/>
                </a:lnTo>
                <a:lnTo>
                  <a:pt x="736" y="100"/>
                </a:lnTo>
                <a:lnTo>
                  <a:pt x="752" y="97"/>
                </a:lnTo>
                <a:lnTo>
                  <a:pt x="768" y="91"/>
                </a:lnTo>
                <a:lnTo>
                  <a:pt x="783" y="86"/>
                </a:lnTo>
                <a:lnTo>
                  <a:pt x="783" y="86"/>
                </a:lnTo>
                <a:lnTo>
                  <a:pt x="810" y="74"/>
                </a:lnTo>
                <a:lnTo>
                  <a:pt x="837" y="63"/>
                </a:lnTo>
                <a:lnTo>
                  <a:pt x="867" y="54"/>
                </a:lnTo>
                <a:lnTo>
                  <a:pt x="894" y="43"/>
                </a:lnTo>
                <a:lnTo>
                  <a:pt x="923" y="35"/>
                </a:lnTo>
                <a:lnTo>
                  <a:pt x="951" y="25"/>
                </a:lnTo>
                <a:lnTo>
                  <a:pt x="980" y="19"/>
                </a:lnTo>
                <a:lnTo>
                  <a:pt x="1009" y="11"/>
                </a:lnTo>
                <a:lnTo>
                  <a:pt x="1037" y="6"/>
                </a:lnTo>
                <a:lnTo>
                  <a:pt x="1066" y="2"/>
                </a:lnTo>
                <a:lnTo>
                  <a:pt x="1095" y="0"/>
                </a:lnTo>
                <a:lnTo>
                  <a:pt x="1123" y="0"/>
                </a:lnTo>
                <a:lnTo>
                  <a:pt x="1153" y="0"/>
                </a:lnTo>
                <a:lnTo>
                  <a:pt x="1181" y="2"/>
                </a:lnTo>
                <a:lnTo>
                  <a:pt x="1209" y="6"/>
                </a:lnTo>
                <a:lnTo>
                  <a:pt x="1238" y="13"/>
                </a:lnTo>
                <a:lnTo>
                  <a:pt x="1238" y="13"/>
                </a:lnTo>
                <a:lnTo>
                  <a:pt x="1255" y="21"/>
                </a:lnTo>
                <a:lnTo>
                  <a:pt x="1267" y="33"/>
                </a:lnTo>
                <a:lnTo>
                  <a:pt x="1275" y="50"/>
                </a:lnTo>
                <a:lnTo>
                  <a:pt x="1281" y="68"/>
                </a:lnTo>
                <a:lnTo>
                  <a:pt x="1283" y="88"/>
                </a:lnTo>
                <a:lnTo>
                  <a:pt x="1282" y="109"/>
                </a:lnTo>
                <a:lnTo>
                  <a:pt x="1278" y="126"/>
                </a:lnTo>
                <a:lnTo>
                  <a:pt x="1270" y="144"/>
                </a:lnTo>
                <a:lnTo>
                  <a:pt x="1270" y="144"/>
                </a:lnTo>
                <a:lnTo>
                  <a:pt x="1251" y="160"/>
                </a:lnTo>
                <a:lnTo>
                  <a:pt x="1223" y="165"/>
                </a:lnTo>
                <a:lnTo>
                  <a:pt x="1190" y="165"/>
                </a:lnTo>
                <a:lnTo>
                  <a:pt x="1156" y="161"/>
                </a:lnTo>
                <a:lnTo>
                  <a:pt x="1122" y="156"/>
                </a:lnTo>
                <a:lnTo>
                  <a:pt x="1094" y="156"/>
                </a:lnTo>
                <a:lnTo>
                  <a:pt x="1072" y="162"/>
                </a:lnTo>
                <a:lnTo>
                  <a:pt x="1062" y="177"/>
                </a:lnTo>
                <a:lnTo>
                  <a:pt x="1062" y="177"/>
                </a:lnTo>
                <a:lnTo>
                  <a:pt x="1054" y="239"/>
                </a:lnTo>
                <a:lnTo>
                  <a:pt x="1052" y="300"/>
                </a:lnTo>
                <a:lnTo>
                  <a:pt x="1052" y="355"/>
                </a:lnTo>
                <a:lnTo>
                  <a:pt x="1054" y="397"/>
                </a:lnTo>
                <a:lnTo>
                  <a:pt x="1054" y="397"/>
                </a:lnTo>
                <a:lnTo>
                  <a:pt x="1056" y="484"/>
                </a:lnTo>
                <a:lnTo>
                  <a:pt x="1061" y="546"/>
                </a:lnTo>
                <a:lnTo>
                  <a:pt x="1068" y="621"/>
                </a:lnTo>
                <a:lnTo>
                  <a:pt x="1077" y="740"/>
                </a:lnTo>
                <a:lnTo>
                  <a:pt x="1077" y="740"/>
                </a:lnTo>
                <a:lnTo>
                  <a:pt x="1080" y="829"/>
                </a:lnTo>
                <a:lnTo>
                  <a:pt x="1080" y="911"/>
                </a:lnTo>
                <a:lnTo>
                  <a:pt x="1081" y="1001"/>
                </a:lnTo>
                <a:lnTo>
                  <a:pt x="1092" y="1110"/>
                </a:lnTo>
                <a:lnTo>
                  <a:pt x="1092" y="1110"/>
                </a:lnTo>
                <a:lnTo>
                  <a:pt x="1094" y="1132"/>
                </a:lnTo>
                <a:lnTo>
                  <a:pt x="1092" y="1153"/>
                </a:lnTo>
                <a:lnTo>
                  <a:pt x="1088" y="1176"/>
                </a:lnTo>
                <a:lnTo>
                  <a:pt x="1080" y="1196"/>
                </a:lnTo>
                <a:lnTo>
                  <a:pt x="1070" y="1215"/>
                </a:lnTo>
                <a:lnTo>
                  <a:pt x="1058" y="1231"/>
                </a:lnTo>
                <a:lnTo>
                  <a:pt x="1043" y="1245"/>
                </a:lnTo>
                <a:lnTo>
                  <a:pt x="1025" y="1254"/>
                </a:lnTo>
                <a:lnTo>
                  <a:pt x="1025" y="1254"/>
                </a:lnTo>
                <a:lnTo>
                  <a:pt x="1009" y="1259"/>
                </a:lnTo>
                <a:lnTo>
                  <a:pt x="992" y="1264"/>
                </a:lnTo>
                <a:lnTo>
                  <a:pt x="976" y="1268"/>
                </a:lnTo>
                <a:lnTo>
                  <a:pt x="960" y="1273"/>
                </a:lnTo>
                <a:lnTo>
                  <a:pt x="943" y="1277"/>
                </a:lnTo>
                <a:lnTo>
                  <a:pt x="927" y="1280"/>
                </a:lnTo>
                <a:lnTo>
                  <a:pt x="909" y="1284"/>
                </a:lnTo>
                <a:lnTo>
                  <a:pt x="892" y="1286"/>
                </a:lnTo>
                <a:lnTo>
                  <a:pt x="875" y="1289"/>
                </a:lnTo>
                <a:lnTo>
                  <a:pt x="858" y="1292"/>
                </a:lnTo>
                <a:lnTo>
                  <a:pt x="841" y="1294"/>
                </a:lnTo>
                <a:lnTo>
                  <a:pt x="823" y="1297"/>
                </a:lnTo>
                <a:lnTo>
                  <a:pt x="806" y="1300"/>
                </a:lnTo>
                <a:lnTo>
                  <a:pt x="788" y="1303"/>
                </a:lnTo>
                <a:lnTo>
                  <a:pt x="771" y="1307"/>
                </a:lnTo>
                <a:lnTo>
                  <a:pt x="753" y="1310"/>
                </a:lnTo>
                <a:lnTo>
                  <a:pt x="753" y="1310"/>
                </a:lnTo>
                <a:lnTo>
                  <a:pt x="730" y="1313"/>
                </a:lnTo>
                <a:lnTo>
                  <a:pt x="706" y="1317"/>
                </a:lnTo>
                <a:lnTo>
                  <a:pt x="684" y="1323"/>
                </a:lnTo>
                <a:lnTo>
                  <a:pt x="660" y="1328"/>
                </a:lnTo>
                <a:lnTo>
                  <a:pt x="637" y="1331"/>
                </a:lnTo>
                <a:lnTo>
                  <a:pt x="614" y="1335"/>
                </a:lnTo>
                <a:lnTo>
                  <a:pt x="590" y="1338"/>
                </a:lnTo>
                <a:lnTo>
                  <a:pt x="567" y="1342"/>
                </a:lnTo>
                <a:lnTo>
                  <a:pt x="544" y="1345"/>
                </a:lnTo>
                <a:lnTo>
                  <a:pt x="521" y="1349"/>
                </a:lnTo>
                <a:lnTo>
                  <a:pt x="498" y="1352"/>
                </a:lnTo>
                <a:lnTo>
                  <a:pt x="474" y="1353"/>
                </a:lnTo>
                <a:lnTo>
                  <a:pt x="451" y="1356"/>
                </a:lnTo>
                <a:lnTo>
                  <a:pt x="428" y="1358"/>
                </a:lnTo>
                <a:lnTo>
                  <a:pt x="405" y="1358"/>
                </a:lnTo>
                <a:lnTo>
                  <a:pt x="381" y="1358"/>
                </a:lnTo>
                <a:lnTo>
                  <a:pt x="381" y="1358"/>
                </a:lnTo>
                <a:lnTo>
                  <a:pt x="359" y="1358"/>
                </a:lnTo>
                <a:lnTo>
                  <a:pt x="338" y="1360"/>
                </a:lnTo>
                <a:lnTo>
                  <a:pt x="315" y="1361"/>
                </a:lnTo>
                <a:lnTo>
                  <a:pt x="294" y="1363"/>
                </a:lnTo>
                <a:lnTo>
                  <a:pt x="271" y="1366"/>
                </a:lnTo>
                <a:lnTo>
                  <a:pt x="248" y="1367"/>
                </a:lnTo>
                <a:lnTo>
                  <a:pt x="227" y="1368"/>
                </a:lnTo>
                <a:lnTo>
                  <a:pt x="205" y="1368"/>
                </a:lnTo>
                <a:lnTo>
                  <a:pt x="183" y="1368"/>
                </a:lnTo>
                <a:lnTo>
                  <a:pt x="161" y="1368"/>
                </a:lnTo>
                <a:lnTo>
                  <a:pt x="138" y="1367"/>
                </a:lnTo>
                <a:lnTo>
                  <a:pt x="118" y="1364"/>
                </a:lnTo>
                <a:lnTo>
                  <a:pt x="96" y="1360"/>
                </a:lnTo>
                <a:lnTo>
                  <a:pt x="75" y="1355"/>
                </a:lnTo>
                <a:lnTo>
                  <a:pt x="56" y="1347"/>
                </a:lnTo>
                <a:lnTo>
                  <a:pt x="36" y="1338"/>
                </a:lnTo>
                <a:lnTo>
                  <a:pt x="36" y="1338"/>
                </a:lnTo>
                <a:lnTo>
                  <a:pt x="18" y="1324"/>
                </a:lnTo>
                <a:lnTo>
                  <a:pt x="6" y="1304"/>
                </a:lnTo>
                <a:lnTo>
                  <a:pt x="0" y="1280"/>
                </a:lnTo>
                <a:lnTo>
                  <a:pt x="0" y="1251"/>
                </a:lnTo>
                <a:lnTo>
                  <a:pt x="4" y="1226"/>
                </a:lnTo>
                <a:lnTo>
                  <a:pt x="12" y="1201"/>
                </a:lnTo>
                <a:lnTo>
                  <a:pt x="26" y="1181"/>
                </a:lnTo>
                <a:lnTo>
                  <a:pt x="44" y="1166"/>
                </a:lnTo>
                <a:lnTo>
                  <a:pt x="44" y="1166"/>
                </a:lnTo>
                <a:lnTo>
                  <a:pt x="61" y="1160"/>
                </a:lnTo>
                <a:lnTo>
                  <a:pt x="80" y="1159"/>
                </a:lnTo>
                <a:lnTo>
                  <a:pt x="101" y="1161"/>
                </a:lnTo>
                <a:lnTo>
                  <a:pt x="123" y="1166"/>
                </a:lnTo>
                <a:lnTo>
                  <a:pt x="145" y="1171"/>
                </a:lnTo>
                <a:lnTo>
                  <a:pt x="169" y="1177"/>
                </a:lnTo>
                <a:lnTo>
                  <a:pt x="192" y="1179"/>
                </a:lnTo>
                <a:lnTo>
                  <a:pt x="214" y="1178"/>
                </a:lnTo>
                <a:lnTo>
                  <a:pt x="214" y="1178"/>
                </a:lnTo>
                <a:lnTo>
                  <a:pt x="255" y="1107"/>
                </a:lnTo>
                <a:lnTo>
                  <a:pt x="278" y="1032"/>
                </a:lnTo>
                <a:lnTo>
                  <a:pt x="286" y="954"/>
                </a:lnTo>
                <a:lnTo>
                  <a:pt x="283" y="875"/>
                </a:lnTo>
                <a:lnTo>
                  <a:pt x="274" y="794"/>
                </a:lnTo>
                <a:lnTo>
                  <a:pt x="261" y="712"/>
                </a:lnTo>
                <a:lnTo>
                  <a:pt x="248" y="632"/>
                </a:lnTo>
                <a:lnTo>
                  <a:pt x="240" y="554"/>
                </a:lnTo>
                <a:lnTo>
                  <a:pt x="240" y="554"/>
                </a:lnTo>
                <a:lnTo>
                  <a:pt x="238" y="490"/>
                </a:lnTo>
                <a:lnTo>
                  <a:pt x="239" y="425"/>
                </a:lnTo>
                <a:lnTo>
                  <a:pt x="244" y="360"/>
                </a:lnTo>
                <a:lnTo>
                  <a:pt x="253" y="295"/>
                </a:lnTo>
                <a:lnTo>
                  <a:pt x="253" y="295"/>
                </a:lnTo>
                <a:lnTo>
                  <a:pt x="258" y="267"/>
                </a:lnTo>
                <a:lnTo>
                  <a:pt x="266" y="241"/>
                </a:lnTo>
                <a:lnTo>
                  <a:pt x="276" y="216"/>
                </a:lnTo>
                <a:lnTo>
                  <a:pt x="288" y="192"/>
                </a:lnTo>
                <a:lnTo>
                  <a:pt x="302" y="170"/>
                </a:lnTo>
                <a:lnTo>
                  <a:pt x="317" y="148"/>
                </a:lnTo>
                <a:lnTo>
                  <a:pt x="334" y="125"/>
                </a:lnTo>
                <a:lnTo>
                  <a:pt x="352" y="105"/>
                </a:lnTo>
                <a:lnTo>
                  <a:pt x="352" y="105"/>
                </a:lnTo>
                <a:lnTo>
                  <a:pt x="359" y="100"/>
                </a:lnTo>
                <a:lnTo>
                  <a:pt x="368" y="100"/>
                </a:lnTo>
                <a:lnTo>
                  <a:pt x="376" y="100"/>
                </a:lnTo>
                <a:lnTo>
                  <a:pt x="382" y="1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97760" y="5432400"/>
            <a:ext cx="1311120" cy="308160"/>
          </a:xfrm>
          <a:custGeom>
            <a:avLst/>
            <a:gdLst/>
            <a:ahLst/>
            <a:rect l="l" t="t" r="r" b="b"/>
            <a:pathLst>
              <a:path w="826" h="194">
                <a:moveTo>
                  <a:pt x="825" y="189"/>
                </a:moveTo>
                <a:lnTo>
                  <a:pt x="825" y="189"/>
                </a:lnTo>
                <a:lnTo>
                  <a:pt x="819" y="191"/>
                </a:lnTo>
                <a:lnTo>
                  <a:pt x="804" y="193"/>
                </a:lnTo>
                <a:lnTo>
                  <a:pt x="785" y="191"/>
                </a:lnTo>
                <a:lnTo>
                  <a:pt x="766" y="182"/>
                </a:lnTo>
                <a:lnTo>
                  <a:pt x="754" y="161"/>
                </a:lnTo>
                <a:lnTo>
                  <a:pt x="752" y="127"/>
                </a:lnTo>
                <a:lnTo>
                  <a:pt x="767" y="75"/>
                </a:lnTo>
                <a:lnTo>
                  <a:pt x="802" y="0"/>
                </a:lnTo>
                <a:lnTo>
                  <a:pt x="802" y="0"/>
                </a:lnTo>
                <a:lnTo>
                  <a:pt x="793" y="1"/>
                </a:lnTo>
                <a:lnTo>
                  <a:pt x="772" y="6"/>
                </a:lnTo>
                <a:lnTo>
                  <a:pt x="737" y="14"/>
                </a:lnTo>
                <a:lnTo>
                  <a:pt x="692" y="24"/>
                </a:lnTo>
                <a:lnTo>
                  <a:pt x="638" y="36"/>
                </a:lnTo>
                <a:lnTo>
                  <a:pt x="577" y="51"/>
                </a:lnTo>
                <a:lnTo>
                  <a:pt x="511" y="65"/>
                </a:lnTo>
                <a:lnTo>
                  <a:pt x="442" y="79"/>
                </a:lnTo>
                <a:lnTo>
                  <a:pt x="373" y="91"/>
                </a:lnTo>
                <a:lnTo>
                  <a:pt x="302" y="103"/>
                </a:lnTo>
                <a:lnTo>
                  <a:pt x="236" y="114"/>
                </a:lnTo>
                <a:lnTo>
                  <a:pt x="173" y="123"/>
                </a:lnTo>
                <a:lnTo>
                  <a:pt x="115" y="128"/>
                </a:lnTo>
                <a:lnTo>
                  <a:pt x="66" y="131"/>
                </a:lnTo>
                <a:lnTo>
                  <a:pt x="27" y="129"/>
                </a:lnTo>
                <a:lnTo>
                  <a:pt x="0" y="1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31200" y="3760920"/>
            <a:ext cx="241200" cy="399960"/>
          </a:xfrm>
          <a:custGeom>
            <a:avLst/>
            <a:gdLst/>
            <a:ahLst/>
            <a:rect l="l" t="t" r="r" b="b"/>
            <a:pathLst>
              <a:path w="152" h="252">
                <a:moveTo>
                  <a:pt x="151" y="0"/>
                </a:moveTo>
                <a:lnTo>
                  <a:pt x="151" y="0"/>
                </a:lnTo>
                <a:lnTo>
                  <a:pt x="123" y="9"/>
                </a:lnTo>
                <a:lnTo>
                  <a:pt x="96" y="20"/>
                </a:lnTo>
                <a:lnTo>
                  <a:pt x="68" y="32"/>
                </a:lnTo>
                <a:lnTo>
                  <a:pt x="45" y="50"/>
                </a:lnTo>
                <a:lnTo>
                  <a:pt x="25" y="79"/>
                </a:lnTo>
                <a:lnTo>
                  <a:pt x="10" y="118"/>
                </a:lnTo>
                <a:lnTo>
                  <a:pt x="1" y="176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98000" y="4281480"/>
            <a:ext cx="18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46960" y="432900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89920" y="503244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01080" y="5083200"/>
            <a:ext cx="1443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61200" y="4003560"/>
            <a:ext cx="2412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13680" y="4064040"/>
            <a:ext cx="15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76960" y="4135320"/>
            <a:ext cx="1317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250120" y="5130360"/>
            <a:ext cx="2890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335800" y="5176800"/>
            <a:ext cx="2034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407440" y="5248080"/>
            <a:ext cx="1317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86760" y="5049720"/>
            <a:ext cx="83880" cy="79560"/>
          </a:xfrm>
          <a:custGeom>
            <a:avLst/>
            <a:gdLst/>
            <a:ahLst/>
            <a:rect l="l" t="t" r="r" b="b"/>
            <a:pathLst>
              <a:path w="53" h="50">
                <a:moveTo>
                  <a:pt x="31" y="6"/>
                </a:moveTo>
                <a:lnTo>
                  <a:pt x="16" y="27"/>
                </a:lnTo>
                <a:lnTo>
                  <a:pt x="28" y="49"/>
                </a:lnTo>
                <a:lnTo>
                  <a:pt x="52" y="35"/>
                </a:lnTo>
                <a:lnTo>
                  <a:pt x="40" y="14"/>
                </a:lnTo>
                <a:lnTo>
                  <a:pt x="25" y="34"/>
                </a:lnTo>
                <a:lnTo>
                  <a:pt x="31" y="6"/>
                </a:lnTo>
                <a:lnTo>
                  <a:pt x="0" y="0"/>
                </a:lnTo>
                <a:lnTo>
                  <a:pt x="16" y="27"/>
                </a:lnTo>
                <a:lnTo>
                  <a:pt x="31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26360" y="5059440"/>
            <a:ext cx="71280" cy="63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16" y="21"/>
                </a:moveTo>
                <a:lnTo>
                  <a:pt x="33" y="8"/>
                </a:lnTo>
                <a:lnTo>
                  <a:pt x="6" y="0"/>
                </a:lnTo>
                <a:lnTo>
                  <a:pt x="0" y="28"/>
                </a:lnTo>
                <a:lnTo>
                  <a:pt x="27" y="35"/>
                </a:lnTo>
                <a:lnTo>
                  <a:pt x="44" y="21"/>
                </a:lnTo>
                <a:lnTo>
                  <a:pt x="27" y="35"/>
                </a:lnTo>
                <a:lnTo>
                  <a:pt x="42" y="39"/>
                </a:lnTo>
                <a:lnTo>
                  <a:pt x="44" y="21"/>
                </a:lnTo>
                <a:lnTo>
                  <a:pt x="16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51560" y="5003640"/>
            <a:ext cx="51120" cy="90720"/>
          </a:xfrm>
          <a:custGeom>
            <a:avLst/>
            <a:gdLst/>
            <a:ahLst/>
            <a:rect l="l" t="t" r="r" b="b"/>
            <a:pathLst>
              <a:path w="32" h="57">
                <a:moveTo>
                  <a:pt x="25" y="18"/>
                </a:moveTo>
                <a:lnTo>
                  <a:pt x="3" y="27"/>
                </a:lnTo>
                <a:lnTo>
                  <a:pt x="0" y="56"/>
                </a:lnTo>
                <a:lnTo>
                  <a:pt x="28" y="56"/>
                </a:lnTo>
                <a:lnTo>
                  <a:pt x="31" y="27"/>
                </a:lnTo>
                <a:lnTo>
                  <a:pt x="8" y="37"/>
                </a:lnTo>
                <a:lnTo>
                  <a:pt x="25" y="18"/>
                </a:lnTo>
                <a:lnTo>
                  <a:pt x="6" y="0"/>
                </a:lnTo>
                <a:lnTo>
                  <a:pt x="3" y="27"/>
                </a:lnTo>
                <a:lnTo>
                  <a:pt x="25" y="1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64520" y="5032440"/>
            <a:ext cx="63360" cy="74520"/>
          </a:xfrm>
          <a:custGeom>
            <a:avLst/>
            <a:gdLst/>
            <a:ahLst/>
            <a:rect l="l" t="t" r="r" b="b"/>
            <a:pathLst>
              <a:path w="40" h="47">
                <a:moveTo>
                  <a:pt x="14" y="19"/>
                </a:moveTo>
                <a:lnTo>
                  <a:pt x="35" y="15"/>
                </a:lnTo>
                <a:lnTo>
                  <a:pt x="17" y="0"/>
                </a:lnTo>
                <a:lnTo>
                  <a:pt x="0" y="19"/>
                </a:lnTo>
                <a:lnTo>
                  <a:pt x="18" y="34"/>
                </a:lnTo>
                <a:lnTo>
                  <a:pt x="39" y="30"/>
                </a:lnTo>
                <a:lnTo>
                  <a:pt x="18" y="34"/>
                </a:lnTo>
                <a:lnTo>
                  <a:pt x="30" y="46"/>
                </a:lnTo>
                <a:lnTo>
                  <a:pt x="39" y="30"/>
                </a:lnTo>
                <a:lnTo>
                  <a:pt x="14" y="1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86480" y="4976640"/>
            <a:ext cx="63720" cy="105120"/>
          </a:xfrm>
          <a:custGeom>
            <a:avLst/>
            <a:gdLst/>
            <a:ahLst/>
            <a:rect l="l" t="t" r="r" b="b"/>
            <a:pathLst>
              <a:path w="40" h="66">
                <a:moveTo>
                  <a:pt x="39" y="28"/>
                </a:moveTo>
                <a:lnTo>
                  <a:pt x="14" y="28"/>
                </a:lnTo>
                <a:lnTo>
                  <a:pt x="0" y="54"/>
                </a:lnTo>
                <a:lnTo>
                  <a:pt x="25" y="65"/>
                </a:lnTo>
                <a:lnTo>
                  <a:pt x="39" y="39"/>
                </a:lnTo>
                <a:lnTo>
                  <a:pt x="14" y="39"/>
                </a:lnTo>
                <a:lnTo>
                  <a:pt x="39" y="28"/>
                </a:lnTo>
                <a:lnTo>
                  <a:pt x="27" y="0"/>
                </a:lnTo>
                <a:lnTo>
                  <a:pt x="14" y="28"/>
                </a:lnTo>
                <a:lnTo>
                  <a:pt x="39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08800" y="5021280"/>
            <a:ext cx="57240" cy="101520"/>
          </a:xfrm>
          <a:custGeom>
            <a:avLst/>
            <a:gdLst/>
            <a:ahLst/>
            <a:rect l="l" t="t" r="r" b="b"/>
            <a:pathLst>
              <a:path w="36" h="64">
                <a:moveTo>
                  <a:pt x="11" y="24"/>
                </a:moveTo>
                <a:lnTo>
                  <a:pt x="35" y="26"/>
                </a:lnTo>
                <a:lnTo>
                  <a:pt x="25" y="0"/>
                </a:lnTo>
                <a:lnTo>
                  <a:pt x="0" y="11"/>
                </a:lnTo>
                <a:lnTo>
                  <a:pt x="11" y="37"/>
                </a:lnTo>
                <a:lnTo>
                  <a:pt x="35" y="39"/>
                </a:lnTo>
                <a:lnTo>
                  <a:pt x="11" y="37"/>
                </a:lnTo>
                <a:lnTo>
                  <a:pt x="22" y="63"/>
                </a:lnTo>
                <a:lnTo>
                  <a:pt x="35" y="39"/>
                </a:lnTo>
                <a:lnTo>
                  <a:pt x="11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26440" y="4960800"/>
            <a:ext cx="66600" cy="123840"/>
          </a:xfrm>
          <a:custGeom>
            <a:avLst/>
            <a:gdLst/>
            <a:ahLst/>
            <a:rect l="l" t="t" r="r" b="b"/>
            <a:pathLst>
              <a:path w="42" h="78">
                <a:moveTo>
                  <a:pt x="41" y="39"/>
                </a:moveTo>
                <a:lnTo>
                  <a:pt x="14" y="35"/>
                </a:lnTo>
                <a:lnTo>
                  <a:pt x="0" y="62"/>
                </a:lnTo>
                <a:lnTo>
                  <a:pt x="24" y="77"/>
                </a:lnTo>
                <a:lnTo>
                  <a:pt x="39" y="49"/>
                </a:lnTo>
                <a:lnTo>
                  <a:pt x="14" y="45"/>
                </a:lnTo>
                <a:lnTo>
                  <a:pt x="41" y="39"/>
                </a:lnTo>
                <a:lnTo>
                  <a:pt x="33" y="0"/>
                </a:lnTo>
                <a:lnTo>
                  <a:pt x="14" y="35"/>
                </a:lnTo>
                <a:lnTo>
                  <a:pt x="41" y="3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5022720"/>
            <a:ext cx="52560" cy="95400"/>
          </a:xfrm>
          <a:custGeom>
            <a:avLst/>
            <a:gdLst/>
            <a:ahLst/>
            <a:rect l="l" t="t" r="r" b="b"/>
            <a:pathLst>
              <a:path w="33" h="60">
                <a:moveTo>
                  <a:pt x="9" y="21"/>
                </a:moveTo>
                <a:lnTo>
                  <a:pt x="32" y="28"/>
                </a:lnTo>
                <a:lnTo>
                  <a:pt x="27" y="0"/>
                </a:lnTo>
                <a:lnTo>
                  <a:pt x="0" y="6"/>
                </a:lnTo>
                <a:lnTo>
                  <a:pt x="5" y="33"/>
                </a:lnTo>
                <a:lnTo>
                  <a:pt x="28" y="40"/>
                </a:lnTo>
                <a:lnTo>
                  <a:pt x="5" y="33"/>
                </a:lnTo>
                <a:lnTo>
                  <a:pt x="10" y="59"/>
                </a:lnTo>
                <a:lnTo>
                  <a:pt x="28" y="40"/>
                </a:lnTo>
                <a:lnTo>
                  <a:pt x="9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0" y="4973760"/>
            <a:ext cx="79560" cy="114120"/>
          </a:xfrm>
          <a:custGeom>
            <a:avLst/>
            <a:gdLst/>
            <a:ahLst/>
            <a:rect l="l" t="t" r="r" b="b"/>
            <a:pathLst>
              <a:path w="50" h="72">
                <a:moveTo>
                  <a:pt x="45" y="41"/>
                </a:moveTo>
                <a:lnTo>
                  <a:pt x="22" y="30"/>
                </a:lnTo>
                <a:lnTo>
                  <a:pt x="0" y="52"/>
                </a:lnTo>
                <a:lnTo>
                  <a:pt x="19" y="71"/>
                </a:lnTo>
                <a:lnTo>
                  <a:pt x="41" y="49"/>
                </a:lnTo>
                <a:lnTo>
                  <a:pt x="18" y="38"/>
                </a:lnTo>
                <a:lnTo>
                  <a:pt x="45" y="41"/>
                </a:lnTo>
                <a:lnTo>
                  <a:pt x="49" y="0"/>
                </a:lnTo>
                <a:lnTo>
                  <a:pt x="22" y="30"/>
                </a:lnTo>
                <a:lnTo>
                  <a:pt x="45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80440" y="5033880"/>
            <a:ext cx="55440" cy="100080"/>
          </a:xfrm>
          <a:custGeom>
            <a:avLst/>
            <a:gdLst/>
            <a:ahLst/>
            <a:rect l="l" t="t" r="r" b="b"/>
            <a:pathLst>
              <a:path w="35" h="63">
                <a:moveTo>
                  <a:pt x="10" y="25"/>
                </a:moveTo>
                <a:lnTo>
                  <a:pt x="30" y="39"/>
                </a:lnTo>
                <a:lnTo>
                  <a:pt x="34" y="3"/>
                </a:lnTo>
                <a:lnTo>
                  <a:pt x="7" y="0"/>
                </a:lnTo>
                <a:lnTo>
                  <a:pt x="3" y="36"/>
                </a:lnTo>
                <a:lnTo>
                  <a:pt x="23" y="50"/>
                </a:lnTo>
                <a:lnTo>
                  <a:pt x="3" y="36"/>
                </a:lnTo>
                <a:lnTo>
                  <a:pt x="0" y="62"/>
                </a:lnTo>
                <a:lnTo>
                  <a:pt x="23" y="50"/>
                </a:lnTo>
                <a:lnTo>
                  <a:pt x="10" y="2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96280" y="5016600"/>
            <a:ext cx="104760" cy="98280"/>
          </a:xfrm>
          <a:custGeom>
            <a:avLst/>
            <a:gdLst/>
            <a:ahLst/>
            <a:rect l="l" t="t" r="r" b="b"/>
            <a:pathLst>
              <a:path w="66" h="62">
                <a:moveTo>
                  <a:pt x="49" y="37"/>
                </a:moveTo>
                <a:lnTo>
                  <a:pt x="30" y="19"/>
                </a:lnTo>
                <a:lnTo>
                  <a:pt x="0" y="36"/>
                </a:lnTo>
                <a:lnTo>
                  <a:pt x="13" y="61"/>
                </a:lnTo>
                <a:lnTo>
                  <a:pt x="43" y="44"/>
                </a:lnTo>
                <a:lnTo>
                  <a:pt x="24" y="26"/>
                </a:lnTo>
                <a:lnTo>
                  <a:pt x="49" y="37"/>
                </a:lnTo>
                <a:lnTo>
                  <a:pt x="65" y="0"/>
                </a:lnTo>
                <a:lnTo>
                  <a:pt x="30" y="19"/>
                </a:lnTo>
                <a:lnTo>
                  <a:pt x="49" y="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93040" y="5057640"/>
            <a:ext cx="82440" cy="92160"/>
          </a:xfrm>
          <a:custGeom>
            <a:avLst/>
            <a:gdLst/>
            <a:ahLst/>
            <a:rect l="l" t="t" r="r" b="b"/>
            <a:pathLst>
              <a:path w="52" h="58">
                <a:moveTo>
                  <a:pt x="22" y="25"/>
                </a:moveTo>
                <a:lnTo>
                  <a:pt x="35" y="44"/>
                </a:lnTo>
                <a:lnTo>
                  <a:pt x="51" y="11"/>
                </a:lnTo>
                <a:lnTo>
                  <a:pt x="26" y="0"/>
                </a:lnTo>
                <a:lnTo>
                  <a:pt x="11" y="33"/>
                </a:lnTo>
                <a:lnTo>
                  <a:pt x="25" y="52"/>
                </a:lnTo>
                <a:lnTo>
                  <a:pt x="11" y="33"/>
                </a:lnTo>
                <a:lnTo>
                  <a:pt x="0" y="57"/>
                </a:lnTo>
                <a:lnTo>
                  <a:pt x="25" y="52"/>
                </a:lnTo>
                <a:lnTo>
                  <a:pt x="22" y="2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27960" y="5073480"/>
            <a:ext cx="131760" cy="68400"/>
          </a:xfrm>
          <a:custGeom>
            <a:avLst/>
            <a:gdLst/>
            <a:ahLst/>
            <a:rect l="l" t="t" r="r" b="b"/>
            <a:pathLst>
              <a:path w="83" h="43">
                <a:moveTo>
                  <a:pt x="45" y="32"/>
                </a:moveTo>
                <a:lnTo>
                  <a:pt x="36" y="8"/>
                </a:lnTo>
                <a:lnTo>
                  <a:pt x="0" y="15"/>
                </a:lnTo>
                <a:lnTo>
                  <a:pt x="3" y="42"/>
                </a:lnTo>
                <a:lnTo>
                  <a:pt x="39" y="36"/>
                </a:lnTo>
                <a:lnTo>
                  <a:pt x="29" y="12"/>
                </a:lnTo>
                <a:lnTo>
                  <a:pt x="45" y="32"/>
                </a:lnTo>
                <a:lnTo>
                  <a:pt x="82" y="0"/>
                </a:lnTo>
                <a:lnTo>
                  <a:pt x="36" y="8"/>
                </a:lnTo>
                <a:lnTo>
                  <a:pt x="45" y="3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99520" y="5092560"/>
            <a:ext cx="10152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1" y="20"/>
                </a:moveTo>
                <a:lnTo>
                  <a:pt x="37" y="43"/>
                </a:lnTo>
                <a:lnTo>
                  <a:pt x="63" y="20"/>
                </a:lnTo>
                <a:lnTo>
                  <a:pt x="47" y="0"/>
                </a:lnTo>
                <a:lnTo>
                  <a:pt x="21" y="24"/>
                </a:lnTo>
                <a:lnTo>
                  <a:pt x="26" y="47"/>
                </a:lnTo>
                <a:lnTo>
                  <a:pt x="21" y="24"/>
                </a:lnTo>
                <a:lnTo>
                  <a:pt x="0" y="40"/>
                </a:lnTo>
                <a:lnTo>
                  <a:pt x="26" y="47"/>
                </a:lnTo>
                <a:lnTo>
                  <a:pt x="31" y="2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0560" y="512460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41" y="31"/>
                </a:moveTo>
                <a:lnTo>
                  <a:pt x="36" y="6"/>
                </a:lnTo>
                <a:lnTo>
                  <a:pt x="5" y="0"/>
                </a:lnTo>
                <a:lnTo>
                  <a:pt x="0" y="27"/>
                </a:lnTo>
                <a:lnTo>
                  <a:pt x="31" y="33"/>
                </a:lnTo>
                <a:lnTo>
                  <a:pt x="25" y="9"/>
                </a:lnTo>
                <a:lnTo>
                  <a:pt x="41" y="31"/>
                </a:lnTo>
                <a:lnTo>
                  <a:pt x="65" y="13"/>
                </a:lnTo>
                <a:lnTo>
                  <a:pt x="36" y="6"/>
                </a:lnTo>
                <a:lnTo>
                  <a:pt x="41" y="3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10320" y="513864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32" y="19"/>
                </a:moveTo>
                <a:lnTo>
                  <a:pt x="34" y="42"/>
                </a:lnTo>
                <a:lnTo>
                  <a:pt x="60" y="22"/>
                </a:lnTo>
                <a:lnTo>
                  <a:pt x="44" y="0"/>
                </a:lnTo>
                <a:lnTo>
                  <a:pt x="18" y="21"/>
                </a:lnTo>
                <a:lnTo>
                  <a:pt x="21" y="44"/>
                </a:lnTo>
                <a:lnTo>
                  <a:pt x="18" y="21"/>
                </a:lnTo>
                <a:lnTo>
                  <a:pt x="0" y="34"/>
                </a:lnTo>
                <a:lnTo>
                  <a:pt x="21" y="44"/>
                </a:lnTo>
                <a:lnTo>
                  <a:pt x="32" y="1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5168880"/>
            <a:ext cx="112680" cy="63360"/>
          </a:xfrm>
          <a:custGeom>
            <a:avLst/>
            <a:gdLst/>
            <a:ahLst/>
            <a:rect l="l" t="t" r="r" b="b"/>
            <a:pathLst>
              <a:path w="71" h="40">
                <a:moveTo>
                  <a:pt x="34" y="39"/>
                </a:moveTo>
                <a:lnTo>
                  <a:pt x="37" y="12"/>
                </a:lnTo>
                <a:lnTo>
                  <a:pt x="11" y="0"/>
                </a:lnTo>
                <a:lnTo>
                  <a:pt x="0" y="25"/>
                </a:lnTo>
                <a:lnTo>
                  <a:pt x="26" y="38"/>
                </a:lnTo>
                <a:lnTo>
                  <a:pt x="29" y="11"/>
                </a:lnTo>
                <a:lnTo>
                  <a:pt x="34" y="39"/>
                </a:lnTo>
                <a:lnTo>
                  <a:pt x="70" y="27"/>
                </a:lnTo>
                <a:lnTo>
                  <a:pt x="37" y="12"/>
                </a:lnTo>
                <a:lnTo>
                  <a:pt x="34" y="3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7720" y="5186520"/>
            <a:ext cx="101520" cy="60120"/>
          </a:xfrm>
          <a:custGeom>
            <a:avLst/>
            <a:gdLst/>
            <a:ahLst/>
            <a:rect l="l" t="t" r="r" b="b"/>
            <a:pathLst>
              <a:path w="64" h="38">
                <a:moveTo>
                  <a:pt x="36" y="14"/>
                </a:moveTo>
                <a:lnTo>
                  <a:pt x="30" y="37"/>
                </a:lnTo>
                <a:lnTo>
                  <a:pt x="63" y="28"/>
                </a:lnTo>
                <a:lnTo>
                  <a:pt x="58" y="0"/>
                </a:lnTo>
                <a:lnTo>
                  <a:pt x="25" y="10"/>
                </a:lnTo>
                <a:lnTo>
                  <a:pt x="19" y="33"/>
                </a:lnTo>
                <a:lnTo>
                  <a:pt x="25" y="10"/>
                </a:lnTo>
                <a:lnTo>
                  <a:pt x="0" y="18"/>
                </a:lnTo>
                <a:lnTo>
                  <a:pt x="19" y="33"/>
                </a:lnTo>
                <a:lnTo>
                  <a:pt x="36" y="1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27960" y="5208480"/>
            <a:ext cx="119160" cy="79560"/>
          </a:xfrm>
          <a:custGeom>
            <a:avLst/>
            <a:gdLst/>
            <a:ahLst/>
            <a:rect l="l" t="t" r="r" b="b"/>
            <a:pathLst>
              <a:path w="75" h="50">
                <a:moveTo>
                  <a:pt x="31" y="44"/>
                </a:moveTo>
                <a:lnTo>
                  <a:pt x="40" y="20"/>
                </a:lnTo>
                <a:lnTo>
                  <a:pt x="17" y="0"/>
                </a:lnTo>
                <a:lnTo>
                  <a:pt x="0" y="19"/>
                </a:lnTo>
                <a:lnTo>
                  <a:pt x="23" y="40"/>
                </a:lnTo>
                <a:lnTo>
                  <a:pt x="33" y="16"/>
                </a:lnTo>
                <a:lnTo>
                  <a:pt x="31" y="44"/>
                </a:lnTo>
                <a:lnTo>
                  <a:pt x="74" y="49"/>
                </a:lnTo>
                <a:lnTo>
                  <a:pt x="40" y="20"/>
                </a:lnTo>
                <a:lnTo>
                  <a:pt x="31" y="4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9520" y="5222880"/>
            <a:ext cx="82440" cy="57240"/>
          </a:xfrm>
          <a:custGeom>
            <a:avLst/>
            <a:gdLst/>
            <a:ahLst/>
            <a:rect l="l" t="t" r="r" b="b"/>
            <a:pathLst>
              <a:path w="52" h="36">
                <a:moveTo>
                  <a:pt x="31" y="16"/>
                </a:moveTo>
                <a:lnTo>
                  <a:pt x="16" y="31"/>
                </a:lnTo>
                <a:lnTo>
                  <a:pt x="49" y="35"/>
                </a:lnTo>
                <a:lnTo>
                  <a:pt x="51" y="7"/>
                </a:lnTo>
                <a:lnTo>
                  <a:pt x="18" y="4"/>
                </a:lnTo>
                <a:lnTo>
                  <a:pt x="3" y="18"/>
                </a:lnTo>
                <a:lnTo>
                  <a:pt x="18" y="4"/>
                </a:lnTo>
                <a:lnTo>
                  <a:pt x="0" y="0"/>
                </a:lnTo>
                <a:lnTo>
                  <a:pt x="3" y="18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04200" y="5248440"/>
            <a:ext cx="60120" cy="80640"/>
          </a:xfrm>
          <a:custGeom>
            <a:avLst/>
            <a:gdLst/>
            <a:ahLst/>
            <a:rect l="l" t="t" r="r" b="b"/>
            <a:pathLst>
              <a:path w="38" h="51">
                <a:moveTo>
                  <a:pt x="11" y="36"/>
                </a:moveTo>
                <a:lnTo>
                  <a:pt x="32" y="23"/>
                </a:lnTo>
                <a:lnTo>
                  <a:pt x="28" y="0"/>
                </a:lnTo>
                <a:lnTo>
                  <a:pt x="0" y="2"/>
                </a:lnTo>
                <a:lnTo>
                  <a:pt x="4" y="25"/>
                </a:lnTo>
                <a:lnTo>
                  <a:pt x="25" y="12"/>
                </a:lnTo>
                <a:lnTo>
                  <a:pt x="11" y="36"/>
                </a:lnTo>
                <a:lnTo>
                  <a:pt x="37" y="50"/>
                </a:lnTo>
                <a:lnTo>
                  <a:pt x="32" y="23"/>
                </a:lnTo>
                <a:lnTo>
                  <a:pt x="11" y="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81880" y="524340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7" y="27"/>
                </a:moveTo>
                <a:lnTo>
                  <a:pt x="0" y="26"/>
                </a:lnTo>
                <a:lnTo>
                  <a:pt x="25" y="39"/>
                </a:lnTo>
                <a:lnTo>
                  <a:pt x="39" y="15"/>
                </a:lnTo>
                <a:lnTo>
                  <a:pt x="14" y="1"/>
                </a:lnTo>
                <a:lnTo>
                  <a:pt x="7" y="0"/>
                </a:lnTo>
                <a:lnTo>
                  <a:pt x="14" y="1"/>
                </a:lnTo>
                <a:lnTo>
                  <a:pt x="10" y="0"/>
                </a:lnTo>
                <a:lnTo>
                  <a:pt x="7" y="0"/>
                </a:lnTo>
                <a:lnTo>
                  <a:pt x="7" y="2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73880" y="5243400"/>
            <a:ext cx="120600" cy="44640"/>
          </a:xfrm>
          <a:custGeom>
            <a:avLst/>
            <a:gdLst/>
            <a:ahLst/>
            <a:rect l="l" t="t" r="r" b="b"/>
            <a:pathLst>
              <a:path w="76" h="28">
                <a:moveTo>
                  <a:pt x="11" y="26"/>
                </a:moveTo>
                <a:lnTo>
                  <a:pt x="5" y="27"/>
                </a:lnTo>
                <a:lnTo>
                  <a:pt x="75" y="27"/>
                </a:lnTo>
                <a:lnTo>
                  <a:pt x="75" y="0"/>
                </a:lnTo>
                <a:lnTo>
                  <a:pt x="5" y="0"/>
                </a:lnTo>
                <a:lnTo>
                  <a:pt x="0" y="1"/>
                </a:lnTo>
                <a:lnTo>
                  <a:pt x="5" y="0"/>
                </a:lnTo>
                <a:lnTo>
                  <a:pt x="3" y="0"/>
                </a:lnTo>
                <a:lnTo>
                  <a:pt x="0" y="1"/>
                </a:lnTo>
                <a:lnTo>
                  <a:pt x="11" y="2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02600" y="5245200"/>
            <a:ext cx="90360" cy="85680"/>
          </a:xfrm>
          <a:custGeom>
            <a:avLst/>
            <a:gdLst/>
            <a:ahLst/>
            <a:rect l="l" t="t" r="r" b="b"/>
            <a:pathLst>
              <a:path w="57" h="54">
                <a:moveTo>
                  <a:pt x="7" y="25"/>
                </a:moveTo>
                <a:lnTo>
                  <a:pt x="26" y="40"/>
                </a:lnTo>
                <a:lnTo>
                  <a:pt x="56" y="25"/>
                </a:lnTo>
                <a:lnTo>
                  <a:pt x="45" y="0"/>
                </a:lnTo>
                <a:lnTo>
                  <a:pt x="15" y="15"/>
                </a:lnTo>
                <a:lnTo>
                  <a:pt x="34" y="30"/>
                </a:lnTo>
                <a:lnTo>
                  <a:pt x="7" y="25"/>
                </a:lnTo>
                <a:lnTo>
                  <a:pt x="0" y="53"/>
                </a:lnTo>
                <a:lnTo>
                  <a:pt x="26" y="40"/>
                </a:lnTo>
                <a:lnTo>
                  <a:pt x="7" y="2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3760" y="5200560"/>
            <a:ext cx="68040" cy="93600"/>
          </a:xfrm>
          <a:custGeom>
            <a:avLst/>
            <a:gdLst/>
            <a:ahLst/>
            <a:rect l="l" t="t" r="r" b="b"/>
            <a:pathLst>
              <a:path w="43" h="59">
                <a:moveTo>
                  <a:pt x="27" y="33"/>
                </a:moveTo>
                <a:lnTo>
                  <a:pt x="9" y="18"/>
                </a:lnTo>
                <a:lnTo>
                  <a:pt x="0" y="53"/>
                </a:lnTo>
                <a:lnTo>
                  <a:pt x="27" y="58"/>
                </a:lnTo>
                <a:lnTo>
                  <a:pt x="37" y="23"/>
                </a:lnTo>
                <a:lnTo>
                  <a:pt x="19" y="6"/>
                </a:lnTo>
                <a:lnTo>
                  <a:pt x="37" y="23"/>
                </a:lnTo>
                <a:lnTo>
                  <a:pt x="42" y="0"/>
                </a:lnTo>
                <a:lnTo>
                  <a:pt x="19" y="7"/>
                </a:lnTo>
                <a:lnTo>
                  <a:pt x="27" y="3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65880" y="5210280"/>
            <a:ext cx="92160" cy="73080"/>
          </a:xfrm>
          <a:custGeom>
            <a:avLst/>
            <a:gdLst/>
            <a:ahLst/>
            <a:rect l="l" t="t" r="r" b="b"/>
            <a:pathLst>
              <a:path w="58" h="46">
                <a:moveTo>
                  <a:pt x="14" y="17"/>
                </a:moveTo>
                <a:lnTo>
                  <a:pt x="31" y="36"/>
                </a:lnTo>
                <a:lnTo>
                  <a:pt x="57" y="27"/>
                </a:lnTo>
                <a:lnTo>
                  <a:pt x="49" y="0"/>
                </a:lnTo>
                <a:lnTo>
                  <a:pt x="23" y="8"/>
                </a:lnTo>
                <a:lnTo>
                  <a:pt x="39" y="27"/>
                </a:lnTo>
                <a:lnTo>
                  <a:pt x="14" y="17"/>
                </a:lnTo>
                <a:lnTo>
                  <a:pt x="0" y="45"/>
                </a:lnTo>
                <a:lnTo>
                  <a:pt x="31" y="35"/>
                </a:lnTo>
                <a:lnTo>
                  <a:pt x="14" y="1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88200" y="5173560"/>
            <a:ext cx="82440" cy="81000"/>
          </a:xfrm>
          <a:custGeom>
            <a:avLst/>
            <a:gdLst/>
            <a:ahLst/>
            <a:rect l="l" t="t" r="r" b="b"/>
            <a:pathLst>
              <a:path w="52" h="51">
                <a:moveTo>
                  <a:pt x="28" y="27"/>
                </a:moveTo>
                <a:lnTo>
                  <a:pt x="17" y="8"/>
                </a:lnTo>
                <a:lnTo>
                  <a:pt x="0" y="40"/>
                </a:lnTo>
                <a:lnTo>
                  <a:pt x="25" y="50"/>
                </a:lnTo>
                <a:lnTo>
                  <a:pt x="42" y="19"/>
                </a:lnTo>
                <a:lnTo>
                  <a:pt x="31" y="0"/>
                </a:lnTo>
                <a:lnTo>
                  <a:pt x="42" y="19"/>
                </a:lnTo>
                <a:lnTo>
                  <a:pt x="51" y="2"/>
                </a:lnTo>
                <a:lnTo>
                  <a:pt x="31" y="0"/>
                </a:lnTo>
                <a:lnTo>
                  <a:pt x="28" y="2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7440" y="51688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29" y="3"/>
                </a:moveTo>
                <a:lnTo>
                  <a:pt x="36" y="27"/>
                </a:lnTo>
                <a:lnTo>
                  <a:pt x="60" y="30"/>
                </a:lnTo>
                <a:lnTo>
                  <a:pt x="63" y="3"/>
                </a:lnTo>
                <a:lnTo>
                  <a:pt x="38" y="0"/>
                </a:lnTo>
                <a:lnTo>
                  <a:pt x="45" y="25"/>
                </a:lnTo>
                <a:lnTo>
                  <a:pt x="29" y="3"/>
                </a:lnTo>
                <a:lnTo>
                  <a:pt x="0" y="23"/>
                </a:lnTo>
                <a:lnTo>
                  <a:pt x="36" y="27"/>
                </a:lnTo>
                <a:lnTo>
                  <a:pt x="2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3520" y="514512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25" y="22"/>
                </a:moveTo>
                <a:lnTo>
                  <a:pt x="25" y="0"/>
                </a:lnTo>
                <a:lnTo>
                  <a:pt x="0" y="18"/>
                </a:lnTo>
                <a:lnTo>
                  <a:pt x="16" y="40"/>
                </a:lnTo>
                <a:lnTo>
                  <a:pt x="41" y="22"/>
                </a:lnTo>
                <a:lnTo>
                  <a:pt x="41" y="0"/>
                </a:lnTo>
                <a:lnTo>
                  <a:pt x="41" y="22"/>
                </a:lnTo>
                <a:lnTo>
                  <a:pt x="56" y="11"/>
                </a:lnTo>
                <a:lnTo>
                  <a:pt x="41" y="0"/>
                </a:lnTo>
                <a:lnTo>
                  <a:pt x="25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65880" y="5121360"/>
            <a:ext cx="84240" cy="60120"/>
          </a:xfrm>
          <a:custGeom>
            <a:avLst/>
            <a:gdLst/>
            <a:ahLst/>
            <a:rect l="l" t="t" r="r" b="b"/>
            <a:pathLst>
              <a:path w="53" h="38">
                <a:moveTo>
                  <a:pt x="19" y="0"/>
                </a:moveTo>
                <a:lnTo>
                  <a:pt x="18" y="23"/>
                </a:lnTo>
                <a:lnTo>
                  <a:pt x="36" y="37"/>
                </a:lnTo>
                <a:lnTo>
                  <a:pt x="52" y="15"/>
                </a:lnTo>
                <a:lnTo>
                  <a:pt x="34" y="2"/>
                </a:lnTo>
                <a:lnTo>
                  <a:pt x="32" y="25"/>
                </a:lnTo>
                <a:lnTo>
                  <a:pt x="19" y="0"/>
                </a:lnTo>
                <a:lnTo>
                  <a:pt x="0" y="11"/>
                </a:lnTo>
                <a:lnTo>
                  <a:pt x="18" y="23"/>
                </a:lnTo>
                <a:lnTo>
                  <a:pt x="1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96120" y="5097600"/>
            <a:ext cx="85680" cy="648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2" y="19"/>
                </a:moveTo>
                <a:lnTo>
                  <a:pt x="27" y="0"/>
                </a:lnTo>
                <a:lnTo>
                  <a:pt x="0" y="15"/>
                </a:lnTo>
                <a:lnTo>
                  <a:pt x="13" y="40"/>
                </a:lnTo>
                <a:lnTo>
                  <a:pt x="41" y="25"/>
                </a:lnTo>
                <a:lnTo>
                  <a:pt x="46" y="5"/>
                </a:lnTo>
                <a:lnTo>
                  <a:pt x="41" y="25"/>
                </a:lnTo>
                <a:lnTo>
                  <a:pt x="53" y="17"/>
                </a:lnTo>
                <a:lnTo>
                  <a:pt x="46" y="5"/>
                </a:lnTo>
                <a:lnTo>
                  <a:pt x="22" y="1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80280" y="5240160"/>
            <a:ext cx="277920" cy="379440"/>
          </a:xfrm>
          <a:custGeom>
            <a:avLst/>
            <a:gdLst/>
            <a:ahLst/>
            <a:rect l="l" t="t" r="r" b="b"/>
            <a:pathLst>
              <a:path w="175" h="239">
                <a:moveTo>
                  <a:pt x="45" y="25"/>
                </a:moveTo>
                <a:lnTo>
                  <a:pt x="44" y="52"/>
                </a:lnTo>
                <a:lnTo>
                  <a:pt x="37" y="79"/>
                </a:lnTo>
                <a:lnTo>
                  <a:pt x="27" y="104"/>
                </a:lnTo>
                <a:lnTo>
                  <a:pt x="17" y="129"/>
                </a:lnTo>
                <a:lnTo>
                  <a:pt x="7" y="154"/>
                </a:lnTo>
                <a:lnTo>
                  <a:pt x="0" y="182"/>
                </a:lnTo>
                <a:lnTo>
                  <a:pt x="0" y="209"/>
                </a:lnTo>
                <a:lnTo>
                  <a:pt x="7" y="238"/>
                </a:lnTo>
                <a:lnTo>
                  <a:pt x="13" y="222"/>
                </a:lnTo>
                <a:lnTo>
                  <a:pt x="22" y="207"/>
                </a:lnTo>
                <a:lnTo>
                  <a:pt x="33" y="193"/>
                </a:lnTo>
                <a:lnTo>
                  <a:pt x="45" y="181"/>
                </a:lnTo>
                <a:lnTo>
                  <a:pt x="58" y="170"/>
                </a:lnTo>
                <a:lnTo>
                  <a:pt x="67" y="154"/>
                </a:lnTo>
                <a:lnTo>
                  <a:pt x="74" y="139"/>
                </a:lnTo>
                <a:lnTo>
                  <a:pt x="76" y="123"/>
                </a:lnTo>
                <a:lnTo>
                  <a:pt x="81" y="131"/>
                </a:lnTo>
                <a:lnTo>
                  <a:pt x="76" y="139"/>
                </a:lnTo>
                <a:lnTo>
                  <a:pt x="71" y="145"/>
                </a:lnTo>
                <a:lnTo>
                  <a:pt x="76" y="153"/>
                </a:lnTo>
                <a:lnTo>
                  <a:pt x="83" y="160"/>
                </a:lnTo>
                <a:lnTo>
                  <a:pt x="88" y="171"/>
                </a:lnTo>
                <a:lnTo>
                  <a:pt x="92" y="181"/>
                </a:lnTo>
                <a:lnTo>
                  <a:pt x="96" y="190"/>
                </a:lnTo>
                <a:lnTo>
                  <a:pt x="101" y="200"/>
                </a:lnTo>
                <a:lnTo>
                  <a:pt x="104" y="209"/>
                </a:lnTo>
                <a:lnTo>
                  <a:pt x="111" y="217"/>
                </a:lnTo>
                <a:lnTo>
                  <a:pt x="121" y="223"/>
                </a:lnTo>
                <a:lnTo>
                  <a:pt x="116" y="193"/>
                </a:lnTo>
                <a:lnTo>
                  <a:pt x="121" y="166"/>
                </a:lnTo>
                <a:lnTo>
                  <a:pt x="129" y="137"/>
                </a:lnTo>
                <a:lnTo>
                  <a:pt x="141" y="111"/>
                </a:lnTo>
                <a:lnTo>
                  <a:pt x="154" y="86"/>
                </a:lnTo>
                <a:lnTo>
                  <a:pt x="164" y="59"/>
                </a:lnTo>
                <a:lnTo>
                  <a:pt x="171" y="32"/>
                </a:lnTo>
                <a:lnTo>
                  <a:pt x="174" y="3"/>
                </a:lnTo>
                <a:lnTo>
                  <a:pt x="157" y="3"/>
                </a:lnTo>
                <a:lnTo>
                  <a:pt x="142" y="2"/>
                </a:lnTo>
                <a:lnTo>
                  <a:pt x="126" y="2"/>
                </a:lnTo>
                <a:lnTo>
                  <a:pt x="110" y="2"/>
                </a:lnTo>
                <a:lnTo>
                  <a:pt x="95" y="0"/>
                </a:lnTo>
                <a:lnTo>
                  <a:pt x="78" y="2"/>
                </a:lnTo>
                <a:lnTo>
                  <a:pt x="62" y="3"/>
                </a:lnTo>
                <a:lnTo>
                  <a:pt x="45" y="5"/>
                </a:lnTo>
                <a:lnTo>
                  <a:pt x="45" y="7"/>
                </a:lnTo>
                <a:lnTo>
                  <a:pt x="45" y="13"/>
                </a:lnTo>
                <a:lnTo>
                  <a:pt x="45" y="20"/>
                </a:lnTo>
                <a:lnTo>
                  <a:pt x="45" y="2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24560" y="5072040"/>
            <a:ext cx="239760" cy="23976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75" y="150"/>
                </a:moveTo>
                <a:lnTo>
                  <a:pt x="90" y="149"/>
                </a:lnTo>
                <a:lnTo>
                  <a:pt x="103" y="144"/>
                </a:lnTo>
                <a:lnTo>
                  <a:pt x="117" y="138"/>
                </a:lnTo>
                <a:lnTo>
                  <a:pt x="128" y="128"/>
                </a:lnTo>
                <a:lnTo>
                  <a:pt x="138" y="118"/>
                </a:lnTo>
                <a:lnTo>
                  <a:pt x="145" y="104"/>
                </a:lnTo>
                <a:lnTo>
                  <a:pt x="149" y="90"/>
                </a:lnTo>
                <a:lnTo>
                  <a:pt x="150" y="75"/>
                </a:lnTo>
                <a:lnTo>
                  <a:pt x="149" y="60"/>
                </a:lnTo>
                <a:lnTo>
                  <a:pt x="145" y="45"/>
                </a:lnTo>
                <a:lnTo>
                  <a:pt x="138" y="33"/>
                </a:lnTo>
                <a:lnTo>
                  <a:pt x="128" y="21"/>
                </a:lnTo>
                <a:lnTo>
                  <a:pt x="117" y="12"/>
                </a:lnTo>
                <a:lnTo>
                  <a:pt x="103" y="5"/>
                </a:lnTo>
                <a:lnTo>
                  <a:pt x="90" y="1"/>
                </a:lnTo>
                <a:lnTo>
                  <a:pt x="75" y="0"/>
                </a:lnTo>
                <a:lnTo>
                  <a:pt x="60" y="1"/>
                </a:lnTo>
                <a:lnTo>
                  <a:pt x="45" y="5"/>
                </a:lnTo>
                <a:lnTo>
                  <a:pt x="32" y="12"/>
                </a:lnTo>
                <a:lnTo>
                  <a:pt x="21" y="21"/>
                </a:lnTo>
                <a:lnTo>
                  <a:pt x="12" y="33"/>
                </a:lnTo>
                <a:lnTo>
                  <a:pt x="5" y="45"/>
                </a:lnTo>
                <a:lnTo>
                  <a:pt x="1" y="60"/>
                </a:lnTo>
                <a:lnTo>
                  <a:pt x="0" y="75"/>
                </a:lnTo>
                <a:lnTo>
                  <a:pt x="1" y="90"/>
                </a:lnTo>
                <a:lnTo>
                  <a:pt x="5" y="104"/>
                </a:lnTo>
                <a:lnTo>
                  <a:pt x="12" y="118"/>
                </a:lnTo>
                <a:lnTo>
                  <a:pt x="21" y="128"/>
                </a:lnTo>
                <a:lnTo>
                  <a:pt x="32" y="138"/>
                </a:lnTo>
                <a:lnTo>
                  <a:pt x="45" y="144"/>
                </a:lnTo>
                <a:lnTo>
                  <a:pt x="60" y="149"/>
                </a:lnTo>
                <a:lnTo>
                  <a:pt x="75" y="150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24560" y="5072040"/>
            <a:ext cx="239760" cy="23976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75" y="150"/>
                </a:moveTo>
                <a:lnTo>
                  <a:pt x="75" y="150"/>
                </a:lnTo>
                <a:lnTo>
                  <a:pt x="90" y="149"/>
                </a:lnTo>
                <a:lnTo>
                  <a:pt x="103" y="144"/>
                </a:lnTo>
                <a:lnTo>
                  <a:pt x="117" y="138"/>
                </a:lnTo>
                <a:lnTo>
                  <a:pt x="128" y="128"/>
                </a:lnTo>
                <a:lnTo>
                  <a:pt x="138" y="118"/>
                </a:lnTo>
                <a:lnTo>
                  <a:pt x="145" y="104"/>
                </a:lnTo>
                <a:lnTo>
                  <a:pt x="149" y="90"/>
                </a:lnTo>
                <a:lnTo>
                  <a:pt x="150" y="75"/>
                </a:lnTo>
                <a:lnTo>
                  <a:pt x="150" y="75"/>
                </a:lnTo>
                <a:lnTo>
                  <a:pt x="149" y="60"/>
                </a:lnTo>
                <a:lnTo>
                  <a:pt x="145" y="45"/>
                </a:lnTo>
                <a:lnTo>
                  <a:pt x="138" y="33"/>
                </a:lnTo>
                <a:lnTo>
                  <a:pt x="128" y="21"/>
                </a:lnTo>
                <a:lnTo>
                  <a:pt x="117" y="12"/>
                </a:lnTo>
                <a:lnTo>
                  <a:pt x="103" y="5"/>
                </a:lnTo>
                <a:lnTo>
                  <a:pt x="90" y="1"/>
                </a:lnTo>
                <a:lnTo>
                  <a:pt x="75" y="0"/>
                </a:lnTo>
                <a:lnTo>
                  <a:pt x="75" y="0"/>
                </a:lnTo>
                <a:lnTo>
                  <a:pt x="60" y="1"/>
                </a:lnTo>
                <a:lnTo>
                  <a:pt x="45" y="5"/>
                </a:lnTo>
                <a:lnTo>
                  <a:pt x="32" y="12"/>
                </a:lnTo>
                <a:lnTo>
                  <a:pt x="21" y="21"/>
                </a:lnTo>
                <a:lnTo>
                  <a:pt x="12" y="33"/>
                </a:lnTo>
                <a:lnTo>
                  <a:pt x="5" y="45"/>
                </a:lnTo>
                <a:lnTo>
                  <a:pt x="1" y="60"/>
                </a:lnTo>
                <a:lnTo>
                  <a:pt x="0" y="75"/>
                </a:lnTo>
                <a:lnTo>
                  <a:pt x="0" y="75"/>
                </a:lnTo>
                <a:lnTo>
                  <a:pt x="1" y="90"/>
                </a:lnTo>
                <a:lnTo>
                  <a:pt x="5" y="104"/>
                </a:lnTo>
                <a:lnTo>
                  <a:pt x="12" y="118"/>
                </a:lnTo>
                <a:lnTo>
                  <a:pt x="21" y="128"/>
                </a:lnTo>
                <a:lnTo>
                  <a:pt x="32" y="138"/>
                </a:lnTo>
                <a:lnTo>
                  <a:pt x="45" y="144"/>
                </a:lnTo>
                <a:lnTo>
                  <a:pt x="60" y="149"/>
                </a:lnTo>
                <a:lnTo>
                  <a:pt x="75" y="15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23040" y="440388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8B0-221C-4859-BF66-4AE46E4273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aried types of Access Contro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ionary (D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datory (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tice/Role/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mode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b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e/Gra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rk/Wils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ll/LaPadul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set theory to define the concept of a secure state, the modes of access, and the rules for granting ac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313-CCA6-44CA-9A52-2CD61A6AF7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blems with formal mode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a static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and succinct poli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do not work in corporate systems which are extremely dynamic and constantly chan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e of the previous models deals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iruses/active cont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ojan hor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ew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ocumentation on how to build thes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0CC-D25D-4A86-AD1F-6AB11E5389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C vs. DA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ionary 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ecided how you want to protect and share you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dato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ystem decided how the data will be sha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3D0-B63C-48F8-AFD4-4A7E49264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datory Access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s sensitivity levels, AKA la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object is given a sensitivity label &amp; is accessible only to users who are cleared up to that particular le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the administrators, not object owners, make change the object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more secure than D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ange book B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in systems where security is critical, i.e., mili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to program for and configure &amp;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019-4A07-4902-B800-E48E2E5EF3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datory Access Control 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grade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the system to control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If a file is classified as confidential, MAC will prevent anyone from writing secret or top secret information into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, i.e., print jobs, floppies, other magnetic media must have be labeled as to the sensitivity lev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65480" y="5149800"/>
            <a:ext cx="249876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F6C-B3F1-4474-9706-E7D54B4C02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cretionary Access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is restricted based on the authorization granted to th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ange book C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e use to to separate and protect users from unauthorize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Unix, NT, NetWare, Linux, Vin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the object owner to control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4FA-E2CA-424F-9188-CD38AB0A79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cess control lists (ACL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used by the access control system to determine who may access what programs and files, in what method and at wha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operating systems have different ACL 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acc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/Write/Create/Execute/Modify/Delete/Re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28A-7E68-4AD9-A4F3-DB3AC5BC10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ndard UNIX file permis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1120" y="1528920"/>
          <a:ext cx="776268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28920"/>
                    <a:ext cx="776268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676-FF47-4C48-AB30-63AB3E2842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ndard NT file permis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1120" y="1152360"/>
          <a:ext cx="776268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152360"/>
                    <a:ext cx="7762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DFB-9890-444E-A0E0-8364304B1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range Boo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 Trusted Computer System Evaluation Criteria, DoD 5200.28-STD, 198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he information needed to classify systems (A,B,C,D), defining the degree of trust that may be placed in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tand-alone systems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 NT has a C2 utility, it does many things, including disabling networ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2CC-8DE8-434A-89C8-7C45DF0ACC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pics to be cover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control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s of access contro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C &amp; DA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ange Bo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metr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/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rb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tacks/Vulnerabilities/Moni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MP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AS access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netration Tes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3A8-A864-4D56-9669-897F2894D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range book leve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- Verified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eing SNS, Honeywell SCOM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- M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1/B2/B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VS w/ s, ACF2 or TopSecret, Trusted I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- D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1/C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 VMS, NT, NetWare, Trusted Sol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 Minimal security. Systems that have been evaluated, but fai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lmOS, MS-DOS, OS/2, NT :) ?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F0B-632B-40F8-B8BA-482ACDC5B3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blems with the Orange Boo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an old model, Bell-LaPadu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 alone, no way to network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take a long time (1-2 years) to cert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changes (hot fixes, service packs, patches) break the certif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not adapted to changes in client-server and corporate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 is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most part, not used outside of the government s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99360" y="4863960"/>
            <a:ext cx="1090440" cy="10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612-0B2D-4665-B88B-2481D5DBA6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d Boo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extend the Orange Book t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 two wor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usted Network Interpretation of the TCSEC (NCSC-TG-00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usted Network Interpretation Environments Guideline: Guidance for Applying the Trusted Network Interpretation (NCSC-TG-011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DE6-764D-4C55-9BB7-9969FD23D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ypes of authentica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mething you kn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Password, PIN, mother’s maiden name, passcode, fraternity ch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mething you ha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ATM card, smart card, token, key, ID Badge, driver license, pass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mething you 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Fingerprint, voice scan, iris scan, retina scan, body odor, D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1CB-0B7A-4E81-BFD4-2EA4CD1F71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lti-factor authentic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factor authentication.  To increase the level of security, many systems will require a user to provide 2 of the 3 types of authent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M card + P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dit card + signa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N +  fingerpr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rname + Password (NetWare, Unix, NT defaul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-factor authentication -- For highest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rname + Password + Fingerpr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rname + Passcode + SecurID tok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48600" y="5114880"/>
            <a:ext cx="103824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46E-257B-4B7D-A8B0-BF8A5B79B0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blems with passwor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sec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Given the choice, people will choose easily remembered and hence easily guessed passwords such as names of relatives, pets, phone numbers, birthdays, hobbies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asily brok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Programs such as crack, SmartPass, PWDUMP, NTCrack &amp; l0phtcrack can easily decrypt Unix, NetWare &amp; NT passwords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ctionary attacks are only feasible because users choose easily guessed passwords!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conveni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In an attempt to improve security, organizations often issue users with computer-generated passwords that are difficult, if not impossible to rememb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epudi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nlike a written signature, when a transaction is signed with only a password, there is no real proof as to the identity of the individual that made the trans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031-1C13-449D-9E7B-0131105ED1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assic password ru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est passwords are those that are both easy to remember and hard to crack using a dictionary attack. The best way to create passwords that fulfill both criteria is to use two small unrelated words or phonemes, ideally with a special character or number. Good examples would b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ex7g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typet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us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names, DOB, spouse, phone #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d found in dictionari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ssword as a pass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stems defaul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411-5C24-42C2-8754-E44FB2E639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ssword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e system to use string pass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password time and lengths lim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unsuccessful log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concur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d 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policies for password resets an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st login dates in ban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629-2FFD-451B-A13D-1053C9FCE1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ssword Attac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0phtcr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ctio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ohn the Ripp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comprehensive listing, see Alan Lustiger or attend his presentation at the CSI conference in Nove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jan horse login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BC4-739D-4CCF-B3E2-F4F509D925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ometr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ng a user via human 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measurable physical characteristics of a person to prove thei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gerpr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gnature dynam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in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NA, bl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641-0377-4634-B988-347518C0F7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is access control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 is the heart of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ability to allow only authorized users, programs or processes system or resource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granting or denying, according to a particular security model, of certain permissions to access a resour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 entire set of procedures performed by hardware, software and administrators, to monitor access, identify users requesting access, record access attempts, and grant or deny access based on preestablished ru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D9B-57CE-4BA2-9FF5-910867B6F6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vantages of fingerprint-based biometr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’t be lent like a physical key or token and can’t be forgotten like a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compromise between ease of use, template size, cost and a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gerprint contains enough inherent variability to enable unique identification even in very large (millions of records)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ally lasts forever -- or at least until amputation or dismembe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network login &amp; authentication effort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600-594A-4203-ABD2-6192A61BA4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ometric Disadvantag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relatively expensive per us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nies &amp; products are often new &amp; imm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mon API or other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hesitancy for user accep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2CE-3E34-4E11-9CD4-26F72F01D9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ometric privacy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racking and surveill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Ultimately, the ability to track a person's movement from hour to h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onym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Biometric links to databases could dissolve much of our anonymity when we travel and access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fi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mpilation of transaction data about a particular person that creates a picture of that person's travels, preferences, affiliations or belie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5F6-79A8-4BAC-A461-6F8B50F2F7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actical biometric applic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ff time and attendance tra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zing financial trans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benefits distribution (Social Security, welfare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ing identities at point of s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in conjunction with ATM , credit or smart car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ing physical access to office buildings or hom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ing person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ent against kidnapping in schools, play area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ing children from fatal gun acci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ting/passports/visas &amp; im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F98-9F74-4166-A37A-B2ECEFAB4E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ke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acilitate one-time pass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 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76880" y="3038400"/>
            <a:ext cx="147636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3F9-666F-4E77-8AC9-33EA922E7C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ngle sign-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has one password for all enterprise systems an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way, one strong password can be remembered and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a users accounts can be quickly created on hire, deleted on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to implement and get 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beros, CA-Unicenter, Memco Proxima, IntelliSof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nareWorks, Tivoli Global Sign-On, x.5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E46-6D3F-4F63-8BDD-0A5DB8B992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MIT’s Project Ath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n version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beros is an authentication protocol used for networkwide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oftware must b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rber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ets, authenticators, key distribution center (KD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d in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beros is the three-headed dog that guards the entrance to Hades (this won’t be on the t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733-437F-45B6-8A1C-2E284C79B5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rberos ro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C divided into Authentication Server &amp; Ticket Granting Server (T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Server - authentication the identities of entities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GS - Generates unique session keys between two parties.  Parties then use these session keys for message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472-D05F-40DB-8869-D6DBBD5157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rberos authenticatio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have an account on the KD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C must be a trusted server in a secured 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s a DES key with each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user want to access a host or application, they request a ticket from the KDC vi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log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generate an authenticator that validates the ti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provides ticket and authenticator to the application, which processes them for validity and will then grant ac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E87-F1EE-43A4-BBF1-989574EA17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blems with Kerber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iece of software must b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rber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synchronized time c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UDP which is often blocked by many firew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beros v4 binds tickets to a single network address for a hosts.  Host with multiple NIC’s will have problems using ti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knesses in the v4 RNG allowed secret keys to be easily guessed in some circum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overed by E&amp;Y’s Steve Lodin (along with Gene Spaffor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7AD-4950-4ABF-8005-E99E9519F5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cess control nomencla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through which one proves and verifies certain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through which one ascertains the identity of another person or ent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ction of private data from unauthorized view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is not corrupted or modified in any unauthorized m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is usable.  Contrast with 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D50-E4F6-4007-A65B-B1FDB5FAD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ive attack - Monitor network traffic and then use data obtained or perform a replay at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det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ttack - Attacker is actively trying to break-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oit system vulnerabil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oof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ypto atta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ial of service (DoS) - Not so much an attempt to gain access, rather to prevent system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urf, SYN Flood, Ping of dea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l bomb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E45-9403-4D51-BC9A-378DD74108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ulnerabilit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oods, earthquakes, terrorists, power outage, light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/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upt electronic media, stolen disk dri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a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engineering, disgruntled sta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094-BCC6-4E57-AC0B-E51CE9CFF0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 tr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ivol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nVie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B01-B397-4CCF-A0C6-7FD4F81F26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rusion Detection Sys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S monitors system or network for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S engine has a library and set of signatures that identify an at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defense in dep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in conjunction with a system scanner (CyberCop, ISS S3) for maximum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135-CB74-49E0-A51E-AFBFAAD2A4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ject re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nsure that magnetic media must not have any remnance of previou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applies to buffers, cache and other memory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at TCSEC B2/B3/A1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cure Deletion of Data from Magnetic and Solid-State Mem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Peter Gut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fish.com/security/secure_del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recently declassified as to how 10-pass writes were reco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must be declass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netic media must be degaussed or have secure overwr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72400" y="171360"/>
            <a:ext cx="148752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EBD-6AB1-4F04-8115-3EC9ED6ADC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MPE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ctromagnetic emanations from keyboards, cables, printers, modems, monitors and all electronic equipment.  With appropriate and sophisticated enough equipment, data can be readable at a few hundred ya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MPEST certified equipment, which encases the hardware into a tight, metal construct, shields the electromagnetic eman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ANG Federal is the leading provider of TEMPEST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MPEST hardware is extremely expensive and can only be serviced by certified technicia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ooms &amp; buildings can be TEMPEST-certifie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MPEST standards NACSEM 5100A NACSI 5004 are classified docu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400880" y="314280"/>
            <a:ext cx="103824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864-A72B-4850-97CC-8D80560BFF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nn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ners display at login or connection stating that the system is for the exclusive use of authorized users and that their activity may be monit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olproof, but a good start, especially from a legal persp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sure that the banner does not reveal system information, i.e., OS, version, hardwa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40200" y="603360"/>
            <a:ext cx="323676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F84-7F82-4C17-B6C5-8E647D2BAE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AS access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emote Authentication Dial-In User Service) - client/server protocol &amp; software that enables RAS to communicate with a central server to authenticate dial-in users &amp; authorize their access to requested syst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CACS/TACACS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erminal Access Controller Access Control System) - Authentication protocol that allows a RAS to forward a users logon password to an authentication server. TACACS is an unencrypted protocol and therefore less secure than the later TACACS+ and RADIUS protocols. A later version of TACACS is XTACACS (Extended TACAC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1997 - TACACS and XTACACS are considered Cisco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d-of-Mainten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9B1-CA1D-4D70-8F78-BD5F4837685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netration Tes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all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proving the Security of Your Site by Breaking Into 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y Dan Farmer/Wietse Ven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ish.com/security/admin-guide-to-cracking.htm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weaknesses in Internet, Intranet, Extranet, and RAS technologie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Discovery and footprint analysis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Exploitation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Physical Security Assessment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ocial Engineering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empt to identify vulnerabilities and gain access to critical systems within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and recommends corrective action for the systemic problems which may help propagate these vulnerabilities throughout an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sments allow client to demonstrate the need for additional security resources, by translating exiting vulnerabilities into real life business ris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43C-F8E8-4311-BA1E-78D0553D2C7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le of least privile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most fundamental principles of infos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tha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y object (user, administrator, program, system) should have only the least privileges the object needs to perform its assigned task, and no m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C system that grants users only those rights necessary for them to perform their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exposure to attacks and the damage an attack can 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ecurity example: car ignition key vs. door ke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02F-6E61-48AB-9626-C6120606379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can AC be implemented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tocol (Kerberos, IPSec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(polic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48C-EE22-4426-8B38-D98F7B1AD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mplementing least privile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that only a minimal set of users have root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make a program ru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tu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oot if not needed.  Rather, make file group-writable to some group and make the program ru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tg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at group, rather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tu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run insecure programs on the firewall or other trusted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3AE-8307-45A0-B5A8-7210E5E5B0D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33840" y="1676520"/>
            <a:ext cx="366552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32C-D72D-4530-9E1E-64463388159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does AC hope to protec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- Unauthorized viewing, modification or copy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- Unauthorized use, modification or denial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noted that nearly every network operating system (NT, Unix, Vines, NetWare) is based on a secure physical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B0D-02C8-4E3E-81E6-629D8F031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active access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eness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ground che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lit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 user reg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ion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control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C28-3B7F-4CC2-A397-C4D7557859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access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ba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CTV, sensors, ala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ometr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nces - the higher the voltage the be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d-key and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rd d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721-14F6-4B7A-A735-585AAE38B9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 &amp; privacy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ation of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ing activity, Internet usage, e-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n banners should detail expectations of privacy and state levels of monit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86A-5458-4F0E-A78A-BC8C16369F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cp:lastPrinted>1999-08-09T18:08:03Z</cp:lastPrinted>
  <dcterms:modified xsi:type="dcterms:W3CDTF">2003-06-12T14:26:17Z</dcterms:modified>
  <cp:revision>157</cp:revision>
  <dc:subject/>
  <dc:title>Access Control Systems &amp; Methodology</dc:title>
</cp:coreProperties>
</file>